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.png" ContentType="image/png"/>
  <Override PartName="/ppt/media/image11.wmf" ContentType="image/x-wmf"/>
  <Override PartName="/ppt/media/image31.wmf" ContentType="image/x-wmf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5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6858000" cy="9144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F28-63AA-409D-801B-0603A055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77B-73CD-4A78-BF1D-B162ED42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0E8-03FF-4000-98CA-89866486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B77-98BC-4E00-99E0-DB756343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741-69DC-415D-B18E-292957F1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AC9-9E71-410D-B8CC-306263C0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E09-DFC6-4F04-ACDD-8FDFB4AD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D75-1D9F-4FCA-A52F-BCF1E51A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4CF-80F7-4A6D-987B-56405479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ECA-601E-4159-BEA0-27FD679D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8E8-05DE-4E1B-B3FD-E9368CD6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433-FA6D-4DA6-ABF8-BC7AB686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29D5-3919-4F68-97C0-3C726BAE7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10.png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4640" y="4788000"/>
            <a:ext cx="5732640" cy="2663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69000" y="0"/>
            <a:ext cx="936360" cy="693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333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m, Prénom : ……………………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 : 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26520" y="179280"/>
            <a:ext cx="1070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480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6640" y="118728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" y="118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52640" y="15476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16120" y="1639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2280" y="11872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chon" descr=""/>
          <p:cNvPicPr/>
          <p:nvPr/>
        </p:nvPicPr>
        <p:blipFill>
          <a:blip r:embed="rId3"/>
          <a:stretch/>
        </p:blipFill>
        <p:spPr>
          <a:xfrm>
            <a:off x="692280" y="1763640"/>
            <a:ext cx="108108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vache" descr=""/>
          <p:cNvPicPr/>
          <p:nvPr/>
        </p:nvPicPr>
        <p:blipFill>
          <a:blip r:embed="rId4"/>
          <a:stretch/>
        </p:blipFill>
        <p:spPr>
          <a:xfrm>
            <a:off x="3573360" y="1763640"/>
            <a:ext cx="107964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052640" y="284328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21000" y="284328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3720" y="284328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73720" y="284328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anard" descr=""/>
          <p:cNvPicPr/>
          <p:nvPr/>
        </p:nvPicPr>
        <p:blipFill>
          <a:blip r:embed="rId5"/>
          <a:stretch/>
        </p:blipFill>
        <p:spPr>
          <a:xfrm>
            <a:off x="5157720" y="1763640"/>
            <a:ext cx="76212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chat2" descr=""/>
          <p:cNvPicPr/>
          <p:nvPr/>
        </p:nvPicPr>
        <p:blipFill>
          <a:blip r:embed="rId6"/>
          <a:stretch/>
        </p:blipFill>
        <p:spPr>
          <a:xfrm>
            <a:off x="2133720" y="1763640"/>
            <a:ext cx="107928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125360" y="1042920"/>
            <a:ext cx="474840" cy="641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29000" y="118728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N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76920" y="118584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isten to and write th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ochon" descr=""/>
          <p:cNvPicPr/>
          <p:nvPr/>
        </p:nvPicPr>
        <p:blipFill>
          <a:blip r:embed="rId8"/>
          <a:stretch/>
        </p:blipFill>
        <p:spPr>
          <a:xfrm>
            <a:off x="189000" y="378000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63" name="cheval2" descr=""/>
          <p:cNvPicPr/>
          <p:nvPr/>
        </p:nvPicPr>
        <p:blipFill>
          <a:blip r:embed="rId9"/>
          <a:stretch/>
        </p:blipFill>
        <p:spPr>
          <a:xfrm>
            <a:off x="5157720" y="7164360"/>
            <a:ext cx="1700280" cy="1700280"/>
          </a:xfrm>
          <a:prstGeom prst="rect">
            <a:avLst/>
          </a:prstGeom>
          <a:ln w="0">
            <a:noFill/>
          </a:ln>
        </p:spPr>
      </p:pic>
      <p:pic>
        <p:nvPicPr>
          <p:cNvPr id="64" name="mouton" descr=""/>
          <p:cNvPicPr/>
          <p:nvPr/>
        </p:nvPicPr>
        <p:blipFill>
          <a:blip r:embed="rId10"/>
          <a:stretch/>
        </p:blipFill>
        <p:spPr>
          <a:xfrm>
            <a:off x="404640" y="7415280"/>
            <a:ext cx="1729080" cy="1728720"/>
          </a:xfrm>
          <a:prstGeom prst="rect">
            <a:avLst/>
          </a:prstGeom>
          <a:ln w="0">
            <a:noFill/>
          </a:ln>
        </p:spPr>
      </p:pic>
      <p:pic>
        <p:nvPicPr>
          <p:cNvPr id="65" name="vache" descr=""/>
          <p:cNvPicPr/>
          <p:nvPr/>
        </p:nvPicPr>
        <p:blipFill>
          <a:blip r:embed="rId11"/>
          <a:stretch/>
        </p:blipFill>
        <p:spPr>
          <a:xfrm>
            <a:off x="2924280" y="705492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66" name="canard" descr=""/>
          <p:cNvPicPr/>
          <p:nvPr/>
        </p:nvPicPr>
        <p:blipFill>
          <a:blip r:embed="rId12"/>
          <a:stretch/>
        </p:blipFill>
        <p:spPr>
          <a:xfrm>
            <a:off x="2276640" y="3924360"/>
            <a:ext cx="812520" cy="1150920"/>
          </a:xfrm>
          <a:prstGeom prst="rect">
            <a:avLst/>
          </a:prstGeom>
          <a:ln w="0">
            <a:noFill/>
          </a:ln>
        </p:spPr>
      </p:pic>
      <p:pic>
        <p:nvPicPr>
          <p:cNvPr id="67" name="chat2" descr=""/>
          <p:cNvPicPr/>
          <p:nvPr/>
        </p:nvPicPr>
        <p:blipFill>
          <a:blip r:embed="rId13"/>
          <a:stretch/>
        </p:blipFill>
        <p:spPr>
          <a:xfrm>
            <a:off x="4149720" y="3924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2276640" y="7235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99920" y="7596360"/>
            <a:ext cx="576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2997360" y="6300720"/>
            <a:ext cx="287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8280" y="4859280"/>
            <a:ext cx="4334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789000" y="4572000"/>
            <a:ext cx="144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445000" y="6588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68280" y="503856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21000" y="611280"/>
            <a:ext cx="1952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imal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1080" y="35434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04640" y="1116000"/>
            <a:ext cx="298800" cy="422280"/>
            <a:chOff x="404640" y="1116000"/>
            <a:chExt cx="298800" cy="422280"/>
          </a:xfrm>
        </p:grpSpPr>
        <p:sp>
          <p:nvSpPr>
            <p:cNvPr id="78" name=""/>
            <p:cNvSpPr/>
            <p:nvPr/>
          </p:nvSpPr>
          <p:spPr>
            <a:xfrm>
              <a:off x="404640" y="1116000"/>
              <a:ext cx="298800" cy="42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1120" y="1158480"/>
              <a:ext cx="248040" cy="339480"/>
            </a:xfrm>
            <a:custGeom>
              <a:avLst/>
              <a:gdLst/>
              <a:ahLst/>
              <a:rect l="l" t="t" r="r" b="b"/>
              <a:pathLst>
                <a:path w="273" h="427">
                  <a:moveTo>
                    <a:pt x="96" y="164"/>
                  </a:moveTo>
                  <a:cubicBezTo>
                    <a:pt x="76" y="106"/>
                    <a:pt x="88" y="101"/>
                    <a:pt x="121" y="51"/>
                  </a:cubicBezTo>
                  <a:cubicBezTo>
                    <a:pt x="201" y="67"/>
                    <a:pt x="197" y="64"/>
                    <a:pt x="221" y="139"/>
                  </a:cubicBezTo>
                  <a:cubicBezTo>
                    <a:pt x="217" y="160"/>
                    <a:pt x="219" y="183"/>
                    <a:pt x="209" y="201"/>
                  </a:cubicBezTo>
                  <a:cubicBezTo>
                    <a:pt x="201" y="214"/>
                    <a:pt x="180" y="214"/>
                    <a:pt x="171" y="226"/>
                  </a:cubicBezTo>
                  <a:cubicBezTo>
                    <a:pt x="163" y="236"/>
                    <a:pt x="163" y="251"/>
                    <a:pt x="159" y="264"/>
                  </a:cubicBezTo>
                  <a:cubicBezTo>
                    <a:pt x="167" y="276"/>
                    <a:pt x="170" y="295"/>
                    <a:pt x="184" y="301"/>
                  </a:cubicBezTo>
                  <a:cubicBezTo>
                    <a:pt x="223" y="317"/>
                    <a:pt x="228" y="268"/>
                    <a:pt x="234" y="251"/>
                  </a:cubicBezTo>
                  <a:cubicBezTo>
                    <a:pt x="225" y="335"/>
                    <a:pt x="249" y="400"/>
                    <a:pt x="171" y="427"/>
                  </a:cubicBezTo>
                  <a:cubicBezTo>
                    <a:pt x="118" y="347"/>
                    <a:pt x="154" y="282"/>
                    <a:pt x="71" y="226"/>
                  </a:cubicBezTo>
                  <a:cubicBezTo>
                    <a:pt x="0" y="121"/>
                    <a:pt x="27" y="38"/>
                    <a:pt x="146" y="1"/>
                  </a:cubicBezTo>
                  <a:cubicBezTo>
                    <a:pt x="167" y="5"/>
                    <a:pt x="192" y="0"/>
                    <a:pt x="209" y="13"/>
                  </a:cubicBezTo>
                  <a:cubicBezTo>
                    <a:pt x="273" y="63"/>
                    <a:pt x="259" y="98"/>
                    <a:pt x="259" y="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33360" y="3564000"/>
            <a:ext cx="449280" cy="295200"/>
            <a:chOff x="333360" y="3564000"/>
            <a:chExt cx="449280" cy="295200"/>
          </a:xfrm>
        </p:grpSpPr>
        <p:sp>
          <p:nvSpPr>
            <p:cNvPr id="81" name=""/>
            <p:cNvSpPr/>
            <p:nvPr/>
          </p:nvSpPr>
          <p:spPr>
            <a:xfrm>
              <a:off x="333360" y="3564000"/>
              <a:ext cx="449280" cy="29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393480" y="3583440"/>
              <a:ext cx="338400" cy="233640"/>
              <a:chOff x="393480" y="3583440"/>
              <a:chExt cx="338400" cy="233640"/>
            </a:xfrm>
          </p:grpSpPr>
          <p:sp>
            <p:nvSpPr>
              <p:cNvPr id="83" name=""/>
              <p:cNvSpPr/>
              <p:nvPr/>
            </p:nvSpPr>
            <p:spPr>
              <a:xfrm>
                <a:off x="445680" y="3660840"/>
                <a:ext cx="243000" cy="67320"/>
              </a:xfrm>
              <a:custGeom>
                <a:avLst/>
                <a:gdLst/>
                <a:ahLst/>
                <a:rect l="l" t="t" r="r" b="b"/>
                <a:pathLst>
                  <a:path w="288" h="87">
                    <a:moveTo>
                      <a:pt x="0" y="75"/>
                    </a:moveTo>
                    <a:cubicBezTo>
                      <a:pt x="55" y="56"/>
                      <a:pt x="95" y="18"/>
                      <a:pt x="151" y="0"/>
                    </a:cubicBezTo>
                    <a:cubicBezTo>
                      <a:pt x="195" y="9"/>
                      <a:pt x="219" y="5"/>
                      <a:pt x="251" y="37"/>
                    </a:cubicBezTo>
                    <a:cubicBezTo>
                      <a:pt x="266" y="52"/>
                      <a:pt x="273" y="72"/>
                      <a:pt x="288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56480" y="3728520"/>
                <a:ext cx="231840" cy="88560"/>
              </a:xfrm>
              <a:custGeom>
                <a:avLst/>
                <a:gdLst/>
                <a:ahLst/>
                <a:rect l="l" t="t" r="r" b="b"/>
                <a:pathLst>
                  <a:path w="275" h="114">
                    <a:moveTo>
                      <a:pt x="275" y="13"/>
                    </a:moveTo>
                    <a:cubicBezTo>
                      <a:pt x="259" y="64"/>
                      <a:pt x="238" y="83"/>
                      <a:pt x="188" y="101"/>
                    </a:cubicBezTo>
                    <a:cubicBezTo>
                      <a:pt x="96" y="93"/>
                      <a:pt x="0" y="11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0400" y="3672720"/>
                <a:ext cx="114480" cy="1404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0400" y="3707640"/>
                <a:ext cx="7668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93480" y="3641760"/>
                <a:ext cx="63000" cy="67320"/>
              </a:xfrm>
              <a:custGeom>
                <a:avLst/>
                <a:gdLst/>
                <a:ahLst/>
                <a:rect l="l" t="t" r="r" b="b"/>
                <a:pathLst>
                  <a:path w="75" h="87">
                    <a:moveTo>
                      <a:pt x="0" y="0"/>
                    </a:moveTo>
                    <a:cubicBezTo>
                      <a:pt x="8" y="25"/>
                      <a:pt x="15" y="58"/>
                      <a:pt x="37" y="75"/>
                    </a:cubicBezTo>
                    <a:cubicBezTo>
                      <a:pt x="47" y="83"/>
                      <a:pt x="75" y="87"/>
                      <a:pt x="75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45680" y="3602520"/>
                <a:ext cx="54720" cy="69840"/>
              </a:xfrm>
              <a:custGeom>
                <a:avLst/>
                <a:gdLst/>
                <a:ahLst/>
                <a:rect l="l" t="t" r="r" b="b"/>
                <a:pathLst>
                  <a:path w="76" h="112">
                    <a:moveTo>
                      <a:pt x="0" y="0"/>
                    </a:moveTo>
                    <a:cubicBezTo>
                      <a:pt x="16" y="90"/>
                      <a:pt x="2" y="76"/>
                      <a:pt x="76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0400" y="3601800"/>
                <a:ext cx="61560" cy="58680"/>
              </a:xfrm>
              <a:custGeom>
                <a:avLst/>
                <a:gdLst/>
                <a:ahLst/>
                <a:rect l="l" t="t" r="r" b="b"/>
                <a:pathLst>
                  <a:path w="50" h="125">
                    <a:moveTo>
                      <a:pt x="0" y="0"/>
                    </a:moveTo>
                    <a:cubicBezTo>
                      <a:pt x="10" y="46"/>
                      <a:pt x="6" y="102"/>
                      <a:pt x="50" y="12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8920" y="3602520"/>
                <a:ext cx="49680" cy="77400"/>
              </a:xfrm>
              <a:custGeom>
                <a:avLst/>
                <a:gdLst/>
                <a:ahLst/>
                <a:rect l="l" t="t" r="r" b="b"/>
                <a:pathLst>
                  <a:path w="59" h="100">
                    <a:moveTo>
                      <a:pt x="59" y="0"/>
                    </a:moveTo>
                    <a:cubicBezTo>
                      <a:pt x="0" y="39"/>
                      <a:pt x="21" y="10"/>
                      <a:pt x="21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5360" y="3631320"/>
                <a:ext cx="56520" cy="8784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67" y="0"/>
                    </a:moveTo>
                    <a:cubicBezTo>
                      <a:pt x="0" y="23"/>
                      <a:pt x="16" y="45"/>
                      <a:pt x="16" y="11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1960" y="3583440"/>
                <a:ext cx="42120" cy="77400"/>
              </a:xfrm>
              <a:custGeom>
                <a:avLst/>
                <a:gdLst/>
                <a:ahLst/>
                <a:rect l="l" t="t" r="r" b="b"/>
                <a:pathLst>
                  <a:path w="50" h="100">
                    <a:moveTo>
                      <a:pt x="0" y="0"/>
                    </a:moveTo>
                    <a:cubicBezTo>
                      <a:pt x="5" y="24"/>
                      <a:pt x="9" y="100"/>
                      <a:pt x="50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765000" y="35640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4"/>
          <a:stretch/>
        </p:blipFill>
        <p:spPr>
          <a:xfrm>
            <a:off x="1198440" y="3419640"/>
            <a:ext cx="474840" cy="641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01360" y="35640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6920" y="3564000"/>
            <a:ext cx="36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ook at this work and write th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33720" y="442728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450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8240" y="4643280"/>
            <a:ext cx="6719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450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8240" y="4643280"/>
            <a:ext cx="6719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4500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8240" y="4643280"/>
            <a:ext cx="6719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450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8240" y="4643280"/>
            <a:ext cx="6719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 rot="5400000">
            <a:off x="-865440" y="1420560"/>
            <a:ext cx="914400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 rot="5400000">
            <a:off x="-1141560" y="1420560"/>
            <a:ext cx="914400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5400000">
            <a:off x="-1141560" y="1420560"/>
            <a:ext cx="914400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-1141560" y="1420560"/>
            <a:ext cx="914400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 rot="5400000">
            <a:off x="-1141560" y="1420560"/>
            <a:ext cx="914400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2217240"/>
            <a:ext cx="470412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ritten By: Unkn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ld MacDonald had a farm,E i E i O!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nd on his farm he had a cow,E i E i O!,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ith a moo moo here and a moo moo there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ere a moo, there a moo, everywhere a moo mo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ld MacDonald had a farm, E i E i O!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ld MacDonald had a farm, E i E i O!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nd on his farm he had a duck, E i E i O!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ith a quack quack here, and a quack quack there,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ere a quack, there a quack, everywhere a quack quack,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ld MacDonald had a farm, E i E i O!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8520" y="288000"/>
            <a:ext cx="327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lba Super"/>
              </a:rPr>
              <a:t>Old MacDon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76640" y="53964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vache" descr=""/>
          <p:cNvPicPr/>
          <p:nvPr/>
        </p:nvPicPr>
        <p:blipFill>
          <a:blip r:embed="rId1"/>
          <a:stretch/>
        </p:blipFill>
        <p:spPr>
          <a:xfrm>
            <a:off x="260280" y="140328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24280" y="3924360"/>
            <a:ext cx="1851120" cy="163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60280" y="6516720"/>
            <a:ext cx="1800360" cy="1579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2800" y="4284720"/>
            <a:ext cx="4412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ld MacDonald had a farm, E i E i O!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nd on his farm he had a pig, E i E i O!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ith an oink oink here, and an oink oink there,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ere an oink, there an oink, everywhere an oink-oink,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ld MacDonald had a farm, E i E i O!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292640" y="539640"/>
            <a:ext cx="2087640" cy="176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836640" y="8604360"/>
          <a:ext cx="576360" cy="35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6640" y="8604360"/>
                    <a:ext cx="5763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488600" y="8675640"/>
            <a:ext cx="350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lody on http://www.kididdles.com/mouseum/alpha-o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6280" y="250920"/>
            <a:ext cx="5977080" cy="86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3360" y="0"/>
            <a:ext cx="62974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0280" y="0"/>
            <a:ext cx="6286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0280" y="0"/>
            <a:ext cx="6286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04640" y="0"/>
            <a:ext cx="62978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0280" y="0"/>
            <a:ext cx="62978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4500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38240" y="4643280"/>
            <a:ext cx="6719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5:12:51Z</dcterms:created>
  <dc:creator> </dc:creator>
  <dc:description/>
  <dc:language>en-US</dc:language>
  <cp:lastModifiedBy>HP registered user</cp:lastModifiedBy>
  <dcterms:modified xsi:type="dcterms:W3CDTF">2005-06-09T17:01:38Z</dcterms:modified>
  <cp:revision>27</cp:revision>
  <dc:subject/>
  <dc:title>Diapositive 1</dc:title>
</cp:coreProperties>
</file>